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2E98-CCEB-4D31-A807-1D17CBF9E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8FD1A-7132-4745-9829-07AC78EC3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5E282-C54A-4206-9409-6D433C641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F4649-D96F-410C-ABEB-9AF0995FD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71569-89E3-4119-AC39-AC701B5D7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F74680-4FF2-439C-AD33-DE4A58DCE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FED6B-B317-44AD-8BFF-0C976BECA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693E2-3563-49E2-BF1A-B9937F4AD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A38AE-F8D3-4EA5-A84E-D591D64ABE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31507-AD0D-41A0-9663-50C109F9F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724A4-9D04-4E86-9AEF-3A5365D7F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9822D-90C0-4A21-86F5-D4971F834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85151-4624-4744-A441-B6BC44726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B11FD-A675-4995-BC53-16448FEB4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E2377-F01F-43A7-BFC0-606890583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AF97D-4F06-4EDC-BB89-F9FBB8478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ABB6E1-21F6-4783-B71A-F015419391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24402-E5CC-4B3C-A00E-22787699C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BDD0-5EB1-443A-8F38-85296920D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76197-D600-48F3-9AA2-A45C7D8EC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34E24-8779-4854-BC71-B8EC05B83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4D336-7EE4-4DF6-A76F-2C093F5AD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A445A-B12A-4524-A80A-F379DF4D8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6B0F7-BD5A-4167-AE1D-193C4EA85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5577-AA0A-486F-BD4C-C7B338D9E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7809-9481-42BA-A599-126CEA356F6C}"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055D-1E03-4A42-8EC3-698CB9526E7D}"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German steamer</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was Magwich trying to get to the German Steamer ?</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id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the end of chapter 52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lynn</cp:lastModifiedBy>
  <dcterms:modified xsi:type="dcterms:W3CDTF">2009-03-15T19:23:56Z</dcterms:modified>
  <cp:revision>100</cp:revision>
  <dc:subject/>
  <dc:title>Survivor</dc:title>
</cp:coreProperties>
</file>